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B7E-E743-4BA0-8EBB-CCC9374C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207-4223-4C99-B2C9-C8651CBB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556-B373-4823-85A5-2A0E888A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FE8-D6B4-4F3B-858C-D9F1B005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EB9-D21C-4111-92E1-8BE85AAD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E85-1363-4F00-A73E-17A3FFDC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F01-CFD8-4B6C-8607-B68716F2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612-BEC7-46CB-8683-47B4B03E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3D1-BA51-494E-9CE3-DEF2DEC2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715-E8BA-4D6E-A0FD-FC02094D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49A-968D-40BD-AE84-9DD462B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06A-B186-4807-AA80-882EF996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EF84-1997-44A2-BF8C-8F8E321F4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4:43:39Z</dcterms:created>
  <dc:creator>Grupo Editorial</dc:creator>
  <dc:description/>
  <dc:language>en-US</dc:language>
  <cp:lastModifiedBy>Grupo Editorial</cp:lastModifiedBy>
  <dcterms:modified xsi:type="dcterms:W3CDTF">2001-11-20T14:47:58Z</dcterms:modified>
  <cp:revision>1</cp:revision>
  <dc:subject/>
  <dc:title>Sin título de diapositiva</dc:title>
</cp:coreProperties>
</file>